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entury Schoolbook"/>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17F29FF-C6E3-4CD0-A2BB-AE9F811BD058}" type="datetime">
              <a:rPr b="0" lang="en-US" sz="1200" spc="-1" strike="noStrike">
                <a:solidFill>
                  <a:srgbClr val="000000"/>
                </a:solidFill>
                <a:latin typeface="Century Schoolbook"/>
              </a:rPr>
              <a:t>07/30/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82972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829720"/>
            <a:ext cx="29718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entury Schoolbook"/>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88821FA-40C2-482C-982C-DD9B68A21367}" type="slidenum">
              <a:rPr b="0" lang="en-US" sz="1200" spc="-1" strike="noStrike">
                <a:solidFill>
                  <a:srgbClr val="000000"/>
                </a:solidFill>
                <a:latin typeface="Century School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run custom index reports using the reports catalog section. Under the “Reports” tab and library reports, click on bibliography, call number reports, headings without authority, reading program reports, or shelf lists to generate a list of books with certain characteristics other than author, title, or subject.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4840" y="696960"/>
            <a:ext cx="4648320" cy="3486240"/>
          </a:xfrm>
          <a:prstGeom prst="rect">
            <a:avLst/>
          </a:prstGeom>
          <a:ln w="0">
            <a:noFill/>
          </a:ln>
        </p:spPr>
      </p:sp>
      <p:sp>
        <p:nvSpPr>
          <p:cNvPr id="38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t’s use reading program reports to get a custom index report. First Choose your program Accelerated Reading. Second, choose the reading level and point ranges. Then tell whether you want quizzes with matching titles or not and whether to list them by title, author, or call number.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04840" y="696960"/>
            <a:ext cx="4648320" cy="3486240"/>
          </a:xfrm>
          <a:prstGeom prst="rect">
            <a:avLst/>
          </a:prstGeom>
          <a:ln w="0">
            <a:noFill/>
          </a:ln>
        </p:spPr>
      </p:sp>
      <p:sp>
        <p:nvSpPr>
          <p:cNvPr id="38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run the report to view and prin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861B7-6CC6-4EB7-ACA3-D50CDCDF7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9562B-4600-46B0-A448-2EB147709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3DA74-CF8B-4B98-BEFB-BBD40E4C1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D8921-76F6-4809-AA74-3B4E08924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148D1-EECB-4114-A63A-21E5A3FF2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805A6-3AA8-4104-B722-0B42A4639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CDE57-BD9C-4788-B267-C28D235D1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E4E62-8355-45BF-877E-53183BB00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26FD5-BC6E-4702-B0DA-6BFF30922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A37B3-77D0-4661-89C0-60B1F1CD9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EC7FC-1BB3-4ABA-99BF-6E8CF6C77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858F1-2CB5-4751-A021-45C02910E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73FF1-678C-4234-8B78-03ADCA883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8F768-E717-4F9D-B2C5-7D0B5C944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22B6C-2B66-49C7-A9D1-F09D9207F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55001-9E06-401B-875D-9A0AE46E0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9E241-156A-4437-A52D-4DABF34B0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E476C01-B78B-4F4B-A352-64489D9487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787C6A3-A257-44F1-ADE9-108389D900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D5956E-71CF-4435-911C-C66B9C3CC9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3B1E93-76C8-4836-97DF-2B19F476A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B3C1BF-77D6-4D33-8AB8-0C0126501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65E59-0555-412A-A493-0D97ADBB4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8E40E7-58C0-4CB2-A812-652155011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98FFD0-DCA4-4B2A-A750-CE1C28850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95F703-DC03-4169-9EB2-40F3913CA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E8037B-6D23-4E38-A99F-2DDD08C8C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E33F255-F676-4DAD-8CFC-5A92067C6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E3D9917-48DF-4EBC-880C-BE1B26DAEE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B3D38FE-2A2A-419A-B054-B1E8F50A92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8A56C4-0277-4D61-A9B7-902E01C007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5A32D8-A6B7-4F23-967D-B44D6A94AA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86EAC1-6A4C-49A0-A50A-4ECE6E350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5494D-F1E7-48F2-A673-E9F951935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2D48F5-736C-406B-9F7F-5625249128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43CA23-1477-453B-A8DC-63B58033A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CCE526-BE4A-4AAD-B282-502D9FCF79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386D7-0E64-4035-AB6A-051C6BE66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0EC90-34D4-455C-BE1D-3FA402B2A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71B88-9BD8-4ED8-B1FE-CB4B27030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4D75C0-C066-44E8-AC40-3E6D9A748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52A004-7318-466F-832F-85FF9309D0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308B35-50BF-49B4-B9CB-E786BB69FC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A2B7C01-D7B4-4EF6-86CF-36923F282A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3AFC1-75BF-45D2-A51E-957E2334E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125F6D-2C48-4FDC-BDAB-54A9699D21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84E06C5-8245-4140-810C-01EDB3FE9A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782E0B-A4EC-441C-9DD3-08B90E4D6D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A9A8A6-C487-42EA-AE3C-7018D3FEFE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A8C657-052B-4F12-95D9-202E5E9CFE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C0ACB2-232E-4DC2-A28D-945C9906B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C6652C-A8DE-4E09-86EC-88A0BF0C2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EC68FB-1C5E-4983-B3C5-64453052B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3A3ABB-1C0A-49CA-92AB-03B4EE11E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F3D087B-675E-4BA3-8683-6A1978E56E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EB2B9-26CE-4C9F-A1CA-4217167AA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FEDFD6-C3D0-40E9-9A2C-9C937248CC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E0F6277-C5E8-4E2F-96A2-71FAD0A4AD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109A58D-2DA6-42AF-AD2C-F64EF84866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9588491-79CD-4A8D-A4D2-9731728BA2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357D555-23A5-45D6-A384-0DB96787C0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C4FDF2-59D3-4AEB-91C5-C2D19A364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25DEAD5-577E-4CB5-AD01-DEB3CC047C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4A6E78B-A770-47D2-9181-7BF1975C0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F399BF-B731-4F5C-81DF-23D758016B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CA138A1-7716-4255-949A-177EAEEB3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2F408-EF05-4911-BE06-C16ACF7FF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2D444D6-A303-4BA7-9062-3007FB8231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EEB9CBD-4882-4010-A66A-5B2F836427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2CC6C39-BFF7-4973-BBE5-99EEE3D542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A235632-0CFA-4878-83FC-4BE9E9BBA6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18B7383-823E-4D62-96A5-3194290C4E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5565887-4133-4DC6-9107-1A218DA93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A8F48E4-29F9-493F-B0D4-EDDE0E020B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CC867FB-8776-42A6-9D6A-A11677BD98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20D268D-B65B-46B8-B8A9-70B0686938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25850B-86E7-45FC-9D2B-2355A755F7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32BC3-506C-4968-BC9A-63AF23701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BF82748-2BE5-49D0-8268-570AD45FC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AA54AD-55A2-4878-9D09-82A986D2F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005B60-A7A1-4656-874C-5D9466CE9E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4D66B27-6155-491C-89E7-A28FA96469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1C142DA-A92D-4F11-9007-F3DF63637A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5576A-DF95-4AD0-8C80-A0DF1DAE2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D2480-538D-4C59-82F1-68C82E1B132F}"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AE16E-FA1A-49C9-85AA-3467FDC06A0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44198-BB41-41A6-AF1E-D36958357599}"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B0F8D-5E71-49EE-AF8E-BE5F9D21ACD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21DEA-9014-47DF-9E38-2B58BF25894C}"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3B1DC-7CA5-4A07-A9F1-0477A09DA4D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0A88B-07C6-43F2-AC65-DAF0E8C753F0}" type="datetime">
              <a:rPr b="0" lang="en-US" sz="1200" spc="-1" strike="noStrike">
                <a:solidFill>
                  <a:srgbClr val="fff39d"/>
                </a:solidFill>
                <a:latin typeface="Century Schoolbook"/>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7EA80-AE11-4F6D-BCA8-6F28A59CA43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B8907-43FC-4F57-B98B-597C51E117B1}"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F595A-821B-4239-857B-6BE7EB98624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3D2FD-FB85-4A03-BFB5-0943A17BF2A5}"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1E54C-749C-424D-ACEB-B37EEB0361E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521FE-8843-45D8-A24D-347E99F0D715}"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05A8C-9182-43E4-91ED-35B5973BC0E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Schoolbook"/>
              </a:rPr>
              <a:t>Section Four: Reports and Utilities</a:t>
            </a:r>
            <a:br>
              <a:rPr sz="3000"/>
            </a:br>
            <a:endParaRPr b="0" lang="en-US" sz="3000" spc="-1" strike="noStrike">
              <a:solidFill>
                <a:srgbClr val="575f6d"/>
              </a:solidFill>
              <a:latin typeface="Century Schoolbook"/>
            </a:endParaRPr>
          </a:p>
        </p:txBody>
      </p:sp>
      <p:pic>
        <p:nvPicPr>
          <p:cNvPr id="359" name="Picture 5" descr="banner4_103112"/>
          <p:cNvPicPr/>
          <p:nvPr/>
        </p:nvPicPr>
        <p:blipFill>
          <a:blip r:embed="rId1"/>
          <a:stretch/>
        </p:blipFill>
        <p:spPr>
          <a:xfrm>
            <a:off x="923760" y="1665360"/>
            <a:ext cx="7000920" cy="3552840"/>
          </a:xfrm>
          <a:prstGeom prst="rect">
            <a:avLst/>
          </a:prstGeom>
          <a:ln w="0">
            <a:noFill/>
          </a:ln>
        </p:spPr>
      </p:pic>
      <p:sp>
        <p:nvSpPr>
          <p:cNvPr id="360" name="Text Box 6"/>
          <p:cNvSpPr/>
          <p:nvPr/>
        </p:nvSpPr>
        <p:spPr>
          <a:xfrm>
            <a:off x="3535200" y="5692680"/>
            <a:ext cx="1803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verne Proc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T 747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ing 2013</a:t>
            </a:r>
            <a:endParaRPr b="0" lang="en-US" sz="1800" spc="-1" strike="noStrike">
              <a:solidFill>
                <a:srgbClr val="000000"/>
              </a:solidFill>
              <a:latin typeface="Arial"/>
            </a:endParaRPr>
          </a:p>
        </p:txBody>
      </p:sp>
      <p:sp>
        <p:nvSpPr>
          <p:cNvPr id="361" name="Rectangle 7"/>
          <p:cNvSpPr/>
          <p:nvPr/>
        </p:nvSpPr>
        <p:spPr>
          <a:xfrm>
            <a:off x="4042080" y="4988880"/>
            <a:ext cx="10645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013 Follett </a:t>
            </a:r>
            <a:endParaRPr b="0" lang="en-US" sz="1200" spc="-1" strike="noStrike">
              <a:solidFill>
                <a:srgbClr val="000000"/>
              </a:solidFill>
              <a:latin typeface="Arial"/>
            </a:endParaRPr>
          </a:p>
        </p:txBody>
      </p:sp>
      <p:pic>
        <p:nvPicPr>
          <p:cNvPr id="362" name="Custom Indexes_LLP5.ppt256-0" descr=""/>
          <p:cNvPicPr/>
          <p:nvPr/>
        </p:nvPicPr>
        <p:blipFill>
          <a:blip r:embed="rId2"/>
          <a:stretch/>
        </p:blipFill>
        <p:spPr>
          <a:xfrm>
            <a:off x="8648640" y="6362640"/>
            <a:ext cx="343080" cy="343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Custom Indexes</a:t>
            </a:r>
            <a:endParaRPr b="0" lang="en-US" sz="3000" spc="-1" strike="noStrike">
              <a:solidFill>
                <a:srgbClr val="575f6d"/>
              </a:solidFill>
              <a:latin typeface="Century Schoolbook"/>
            </a:endParaRPr>
          </a:p>
        </p:txBody>
      </p:sp>
      <p:pic>
        <p:nvPicPr>
          <p:cNvPr id="364" name="Picture 3" descr=""/>
          <p:cNvPicPr/>
          <p:nvPr/>
        </p:nvPicPr>
        <p:blipFill>
          <a:blip r:embed="rId1"/>
          <a:srcRect l="18367" t="21889" r="6505" b="26126"/>
          <a:stretch/>
        </p:blipFill>
        <p:spPr>
          <a:xfrm>
            <a:off x="665280" y="1781280"/>
            <a:ext cx="7697520" cy="4124160"/>
          </a:xfrm>
          <a:prstGeom prst="rect">
            <a:avLst/>
          </a:prstGeom>
          <a:ln w="0">
            <a:noFill/>
          </a:ln>
        </p:spPr>
      </p:pic>
      <p:pic>
        <p:nvPicPr>
          <p:cNvPr id="365" name="Custom Indexes_LLP5.ppt295-0" descr=""/>
          <p:cNvPicPr/>
          <p:nvPr/>
        </p:nvPicPr>
        <p:blipFill>
          <a:blip r:embed="rId2"/>
          <a:stretch/>
        </p:blipFill>
        <p:spPr>
          <a:xfrm>
            <a:off x="8648640" y="6362640"/>
            <a:ext cx="343080" cy="34308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23600" y="-36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Running a Custom Index Report</a:t>
            </a:r>
            <a:endParaRPr b="0" lang="en-US" sz="3000" spc="-1" strike="noStrike">
              <a:solidFill>
                <a:srgbClr val="575f6d"/>
              </a:solidFill>
              <a:latin typeface="Century Schoolbook"/>
            </a:endParaRPr>
          </a:p>
        </p:txBody>
      </p:sp>
      <p:pic>
        <p:nvPicPr>
          <p:cNvPr id="367" name="Picture 3" descr=""/>
          <p:cNvPicPr/>
          <p:nvPr/>
        </p:nvPicPr>
        <p:blipFill>
          <a:blip r:embed="rId1"/>
          <a:srcRect l="21557" t="20521" r="7909" b="12053"/>
          <a:stretch/>
        </p:blipFill>
        <p:spPr>
          <a:xfrm>
            <a:off x="1028880" y="1379520"/>
            <a:ext cx="6581520" cy="5106960"/>
          </a:xfrm>
          <a:prstGeom prst="rect">
            <a:avLst/>
          </a:prstGeom>
          <a:ln w="0">
            <a:noFill/>
          </a:ln>
        </p:spPr>
      </p:pic>
      <p:sp>
        <p:nvSpPr>
          <p:cNvPr id="368" name="AutoShape 4"/>
          <p:cNvSpPr/>
          <p:nvPr/>
        </p:nvSpPr>
        <p:spPr>
          <a:xfrm>
            <a:off x="1523880" y="2333520"/>
            <a:ext cx="733680" cy="1314720"/>
          </a:xfrm>
          <a:custGeom>
            <a:avLst/>
            <a:gdLst>
              <a:gd name="textAreaLeft" fmla="*/ 468720 w 733680"/>
              <a:gd name="textAreaRight" fmla="*/ 734040 w 733680"/>
              <a:gd name="textAreaTop" fmla="*/ 34200 h 1314720"/>
              <a:gd name="textAreaBottom" fmla="*/ 1280520 h 131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9" name="Rectangle 5"/>
          <p:cNvSpPr/>
          <p:nvPr/>
        </p:nvSpPr>
        <p:spPr>
          <a:xfrm>
            <a:off x="3000240" y="1533600"/>
            <a:ext cx="419400" cy="247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0" name="Rectangle 6"/>
          <p:cNvSpPr/>
          <p:nvPr/>
        </p:nvSpPr>
        <p:spPr>
          <a:xfrm>
            <a:off x="1028880" y="2085840"/>
            <a:ext cx="666720" cy="1047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71" name="Custom Indexes_LLP5.ppt289-0" descr=""/>
          <p:cNvPicPr/>
          <p:nvPr/>
        </p:nvPicPr>
        <p:blipFill>
          <a:blip r:embed="rId2"/>
          <a:stretch/>
        </p:blipFill>
        <p:spPr>
          <a:xfrm>
            <a:off x="8648640" y="6362640"/>
            <a:ext cx="343080" cy="34308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23600" y="-36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Running a Custom Index Report</a:t>
            </a:r>
            <a:endParaRPr b="0" lang="en-US" sz="3000" spc="-1" strike="noStrike">
              <a:solidFill>
                <a:srgbClr val="575f6d"/>
              </a:solidFill>
              <a:latin typeface="Century Schoolbook"/>
            </a:endParaRPr>
          </a:p>
        </p:txBody>
      </p:sp>
      <p:pic>
        <p:nvPicPr>
          <p:cNvPr id="373" name="Picture 7" descr=""/>
          <p:cNvPicPr/>
          <p:nvPr/>
        </p:nvPicPr>
        <p:blipFill>
          <a:blip r:embed="rId1"/>
          <a:srcRect l="22318" t="19347" r="9369" b="41146"/>
          <a:stretch/>
        </p:blipFill>
        <p:spPr>
          <a:xfrm>
            <a:off x="1238400" y="1149480"/>
            <a:ext cx="5752800" cy="2079360"/>
          </a:xfrm>
          <a:prstGeom prst="rect">
            <a:avLst/>
          </a:prstGeom>
          <a:ln w="0">
            <a:noFill/>
          </a:ln>
        </p:spPr>
      </p:pic>
      <p:sp>
        <p:nvSpPr>
          <p:cNvPr id="374" name="Rectangle 6"/>
          <p:cNvSpPr/>
          <p:nvPr/>
        </p:nvSpPr>
        <p:spPr>
          <a:xfrm>
            <a:off x="2048040" y="2286000"/>
            <a:ext cx="2943000" cy="285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75" name="Picture 10" descr=""/>
          <p:cNvPicPr/>
          <p:nvPr/>
        </p:nvPicPr>
        <p:blipFill>
          <a:blip r:embed="rId2"/>
          <a:srcRect l="21760" t="19185" r="7144" b="28711"/>
          <a:stretch/>
        </p:blipFill>
        <p:spPr>
          <a:xfrm>
            <a:off x="523800" y="3962520"/>
            <a:ext cx="6753240" cy="2765160"/>
          </a:xfrm>
          <a:prstGeom prst="rect">
            <a:avLst/>
          </a:prstGeom>
          <a:ln w="0">
            <a:noFill/>
          </a:ln>
        </p:spPr>
      </p:pic>
      <p:sp>
        <p:nvSpPr>
          <p:cNvPr id="376" name="Rectangle 11"/>
          <p:cNvSpPr/>
          <p:nvPr/>
        </p:nvSpPr>
        <p:spPr>
          <a:xfrm>
            <a:off x="2629080" y="5086440"/>
            <a:ext cx="2943000" cy="3999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7" name="Rectangle 12"/>
          <p:cNvSpPr/>
          <p:nvPr/>
        </p:nvSpPr>
        <p:spPr>
          <a:xfrm>
            <a:off x="2495520" y="4572000"/>
            <a:ext cx="2943360" cy="3999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Rectangle 13"/>
          <p:cNvSpPr/>
          <p:nvPr/>
        </p:nvSpPr>
        <p:spPr>
          <a:xfrm>
            <a:off x="3519360" y="5610240"/>
            <a:ext cx="2943360" cy="476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79" name="Custom Indexes_LLP5.ppt294-0" descr=""/>
          <p:cNvPicPr/>
          <p:nvPr/>
        </p:nvPicPr>
        <p:blipFill>
          <a:blip r:embed="rId3"/>
          <a:stretch/>
        </p:blipFill>
        <p:spPr>
          <a:xfrm>
            <a:off x="8648640" y="6362640"/>
            <a:ext cx="343080" cy="3430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3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Running A Custom Index Report</a:t>
            </a:r>
            <a:endParaRPr b="0" lang="en-US" sz="3000" spc="-1" strike="noStrike">
              <a:solidFill>
                <a:srgbClr val="575f6d"/>
              </a:solidFill>
              <a:latin typeface="Century Schoolbook"/>
            </a:endParaRPr>
          </a:p>
        </p:txBody>
      </p:sp>
      <p:pic>
        <p:nvPicPr>
          <p:cNvPr id="381" name="Picture 4" descr=""/>
          <p:cNvPicPr/>
          <p:nvPr/>
        </p:nvPicPr>
        <p:blipFill>
          <a:blip r:embed="rId1"/>
          <a:srcRect l="21760" t="19185" r="7144" b="28711"/>
          <a:stretch/>
        </p:blipFill>
        <p:spPr>
          <a:xfrm>
            <a:off x="457200" y="1600200"/>
            <a:ext cx="6753240" cy="3838680"/>
          </a:xfrm>
          <a:prstGeom prst="rect">
            <a:avLst/>
          </a:prstGeom>
          <a:ln w="0">
            <a:noFill/>
          </a:ln>
        </p:spPr>
      </p:pic>
      <p:sp>
        <p:nvSpPr>
          <p:cNvPr id="382" name="Rectangle 7"/>
          <p:cNvSpPr/>
          <p:nvPr/>
        </p:nvSpPr>
        <p:spPr>
          <a:xfrm>
            <a:off x="3486240" y="4803840"/>
            <a:ext cx="876240" cy="206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83" name="Custom Indexes_LLP5.ppt264-0" descr=""/>
          <p:cNvPicPr/>
          <p:nvPr/>
        </p:nvPicPr>
        <p:blipFill>
          <a:blip r:embed="rId2"/>
          <a:stretch/>
        </p:blipFill>
        <p:spPr>
          <a:xfrm>
            <a:off x="8648640" y="6362640"/>
            <a:ext cx="343080" cy="3430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00:50:33Z</dcterms:created>
  <dc:creator>Proctor, Laverne</dc:creator>
  <dc:description/>
  <dc:language>en-US</dc:language>
  <cp:lastModifiedBy>Proctor, Laverne</cp:lastModifiedBy>
  <dcterms:modified xsi:type="dcterms:W3CDTF">2013-03-12T05:29:51Z</dcterms:modified>
  <cp:revision>18</cp:revision>
  <dc:subject/>
  <dc:title>Slide 1</dc:title>
</cp:coreProperties>
</file>